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5D8-E2A6-4DE4-89A1-39B6CB0C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42F-B5F4-421C-93FC-653908DE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B87-26EB-4941-955F-FAA4BF66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5CD-2EB0-43B1-8BBF-632F8504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2054-A3C6-463E-8518-86D861AC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4B0-6FF1-49D2-A52C-70E976CC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B05F-5308-4C28-83FB-957441F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9CBA-2EC6-445E-B36C-F1A0278A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BAA0-87CE-4C41-8C6D-5150C6CA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C47-D574-435E-A506-FAAD9ED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E7F8-230B-4342-89F8-6604079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E72-346A-41CE-A5A5-5E83E89D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8441-9CAE-4AA1-8DC5-6DA2FFE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42B-84D3-4C9F-A060-DEE652C8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639D-8115-497B-8721-D37FEED0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348-6AE3-4786-87FF-180A43D6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7FEB-FF5F-4DB1-9FAD-61FE0967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02C-928E-46D6-A149-065D7185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1D6-0322-49E9-8D6D-25ABC88B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E28-3D7D-4407-BA52-4D030D43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48E-5262-4191-9629-521D5503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8BB-EA10-465B-B67B-B0EC2E9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3F3-5524-407E-B2D5-1ACC25C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ED0-4F41-4841-8484-9E44DE4E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47D-35CB-47C9-8B2C-273C8A71FB0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3E2-D4BC-4962-966D-0517192260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cyclopedia.kids.net.au/page/pr/Protein" TargetMode="External"/><Relationship Id="rId3" Type="http://schemas.openxmlformats.org/officeDocument/2006/relationships/hyperlink" Target="http://encyclopedia.kids.net.au/page/im/Immune_system" TargetMode="External"/><Relationship Id="rId4" Type="http://schemas.openxmlformats.org/officeDocument/2006/relationships/hyperlink" Target="http://encyclopedia.kids.net.au/page/ba/Bacterium" TargetMode="External"/><Relationship Id="rId5" Type="http://schemas.openxmlformats.org/officeDocument/2006/relationships/hyperlink" Target="http://encyclopedia.kids.net.au/page/vi/Virus_(biology)" TargetMode="External"/><Relationship Id="rId6" Type="http://schemas.openxmlformats.org/officeDocument/2006/relationships/hyperlink" Target="http://encyclopedia.kids.net.au/page/an/Antigen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municable Disea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pter 12: Lesson 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son 2: The Immune System p. 336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Antibodies"/>
          <p:cNvPicPr/>
          <p:nvPr/>
        </p:nvPicPr>
        <p:blipFill>
          <a:blip r:embed="rId1"/>
          <a:stretch/>
        </p:blipFill>
        <p:spPr>
          <a:xfrm>
            <a:off x="1219320" y="17524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are antibodies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antibod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s a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protein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complex used by the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immune system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to identify and neutralize foreign objects like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bacteria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viruses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. Each antibody recognizes a specific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antigen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unique to its targe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tibod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tibodies that recognize viruses can block these directly by their sheer siz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virus will be unable to dock to a cell and infect it, hindered by the antibod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efending Against Invad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ach day your body is exposed to countless germs. To protect itself against these germs, your body takes action to repel, trap, or destro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ody has natural barriers that keep germs out or destroy them before they can do any damag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5 major barriers, or “first lines of defense” p. 336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cuous membran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liv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omach ac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Immune System’s General Reactions p. 337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en germs get inside your body, your immune system launches an attack.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Three general reactions may occur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no matter what kind of microorganism has invade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Special white blood cells called phagocytes attack the invading germs. These cells actually surround the germs and destroy th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The cells may release a chemical substance called interferon that stops viruses from reproduc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Rising body temperature, commonly called a fever, makes it difficult for some microorganisms to reproduc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ighting against specific germs p. 337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 fight against specific germs, the body calls upon the lymphatic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ymphatic system is a secondary circulatory system that helps the body fight germs and maintain its fluid balan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lymphatic system carries a watery fluid known as lymp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ymphocytes p. 33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al white blood cells in the lymph are called lymphocyt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types: B-cells &amp; T-cel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th are important in fighting off germs and disea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lymph also contains phagocytes known as macrophages, which help the lymphocytes identify invading germ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tigens &amp; Antibodies p. 33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tigens are substances that send your immune system into action when your body is invaded by germ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body recognizes antigens as invad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itbodies are proteins that attach to antigens, keeping them from harming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r immune system produces specific antibodies to fight each antige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gure 12.3 p. 338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the Immune System Responds to Germs 1-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st as many different diseases as you c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mmunity p. 339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r body’s ability to resist the germs that cause a particular disease is called immunit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ou develop immunity in 2 way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ural exposure to ger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mmuniz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os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RITE QUESTIONS AND TURN IN WHEN FINISH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What are the body’s 5 barriers against disea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List 3 general reactions of the immune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Define the terms antigen and antibod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alth Goal # 3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choose behaviors to reduce my risk of infection with communicable disease. P. 32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rms &amp; Disease p. 33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ust about everyone has had some experience with disea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disease is any condition that interferes with the proper functioning of the body or min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cable diseases are caused by microorganisms, organisms so small that they can be seen only through a microscop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fection p. 33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fection results when germs get inside the body, multiply, and damage body cell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the body is unable to fight off the infection, a disease occu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d you know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cteria are tiny, but they reproduce amazingly fast. In several hours, just one bacterium can multiply to 250,000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Viruses, Bacteria, and Other Germ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t all germs are the sam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types of germs that cause diseases include viruses, bacteria, fungi, and protozo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diseases that occur in the U.S. are caused by viruses or bacteri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igure 12.1 Causes of Disease p. 33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 Virus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ung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tozo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germs are spread p. 33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gure 12.2 Spreading Germ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 Contac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rect Contac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Contac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act with Animals or Insec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7:06:24Z</dcterms:created>
  <dc:creator>Hope Whiting</dc:creator>
  <dc:description/>
  <dc:language>en-US</dc:language>
  <cp:lastModifiedBy>Hope Whiting</cp:lastModifiedBy>
  <dcterms:modified xsi:type="dcterms:W3CDTF">2011-06-21T17:39:18Z</dcterms:modified>
  <cp:revision>3</cp:revision>
  <dc:subject/>
  <dc:title>Communicable Diseases</dc:title>
</cp:coreProperties>
</file>